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76D-D0AC-4AC7-BB6D-73120930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494-5C42-4A99-A1B3-70482C77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765-6910-4862-B4C2-A4FF0782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A39-CC82-4567-A548-8B148316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978D-740A-455B-AF4F-05C44766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6BE9-380A-4CA2-B2C7-44A22A7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1C51-DBA1-431A-8EAA-F6DC416E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A863-DE94-4E58-86B6-BDB0C3F3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920F-3FDE-4CFD-9943-53E35139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59D4-3EE7-466A-846F-D676C2B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0E7F-D7B5-4A3E-905D-32DDCCA4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1E7-0F42-4E69-BEDE-08595EBD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BF7E-1969-4504-BF49-CD18C6AF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32BB-4A28-441E-AE85-9BD4591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56B7-6072-4188-897D-B74A9F0C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AAFE-ED1D-4E7E-9496-98C6621F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CDDE-CAF3-4D2D-8C9D-2234ED2D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DD5-3941-4FA6-BAD9-A2F2A400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D86-8833-4594-9B85-B42CC5BB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104-2E73-4783-B07A-40F21720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776-EC37-456C-A4B5-C4683D61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B55-6EF9-4E2B-AB6D-72BED134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CB2-23F5-4829-B6B9-860E1A5D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37D-3AE7-4563-87D0-1114EEBC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římá spojnice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Ová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" name="Ová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" name="Obdélník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bdélník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Obdélník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Obdélník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římá spojnice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Obdélník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Ová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" name="Ová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cs-CZ" sz="1600" spc="-1" strike="noStrike">
                <a:solidFill>
                  <a:srgbClr val="6d8687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7A7DA56-841A-4E53-AFE8-DB1FB24D1965}" type="slidenum">
              <a:rPr b="0" lang="cs-CZ" sz="1600" spc="-1" strike="noStrike">
                <a:solidFill>
                  <a:srgbClr val="6d8687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200" spc="-1" strike="noStrike">
                <a:solidFill>
                  <a:schemeClr val="accent1"/>
                </a:solidFill>
                <a:latin typeface="Calibri"/>
              </a:rPr>
              <a:t>Kliknutím lze upravit styl.</a:t>
            </a:r>
            <a:endParaRPr b="0" lang="cs-CZ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bdélník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délník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délník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délník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římá spojnice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á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Ová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7b9899"/>
                </a:solidFill>
                <a:latin typeface="Calibri"/>
              </a:rPr>
              <a:t>Kliknutím lze upravit styl.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cs-CZ" sz="1600" spc="-1" strike="noStrike">
                <a:solidFill>
                  <a:srgbClr val="7b989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DBC02BA-6E72-49A0-A325-355BF43D77F8}" type="slidenum">
              <a:rPr b="0" lang="cs-CZ" sz="1600" spc="-1" strike="noStrike">
                <a:solidFill>
                  <a:srgbClr val="7b98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646b86"/>
                </a:solidFill>
                <a:latin typeface="Calibri"/>
              </a:rPr>
              <a:t>Druhá úroveň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cs-CZ" sz="2000" spc="-1" strike="noStrike">
                <a:solidFill>
                  <a:srgbClr val="646b86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31640" y="3141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Uložení potrubí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postup výstavb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zásypy potr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chemeClr val="accent1"/>
                </a:solidFill>
                <a:latin typeface="Calibri"/>
              </a:rPr>
              <a:t>V</a:t>
            </a:r>
            <a:r>
              <a:rPr b="1" lang="cs-CZ" sz="4200" spc="-1" strike="noStrike">
                <a:solidFill>
                  <a:schemeClr val="accent1"/>
                </a:solidFill>
                <a:latin typeface="Calibri"/>
              </a:rPr>
              <a:t>ýstavba IS </a:t>
            </a:r>
            <a:br>
              <a:rPr sz="4200"/>
            </a:br>
            <a:r>
              <a:rPr b="1" lang="cs-CZ" sz="4200" spc="-1" strike="noStrike">
                <a:solidFill>
                  <a:schemeClr val="accent1"/>
                </a:solidFill>
                <a:latin typeface="Calibri"/>
              </a:rPr>
              <a:t>v prostoru Slatinice – produktovody a trubní sítě</a:t>
            </a:r>
            <a:endParaRPr b="0" lang="cs-CZ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6785280" y="63349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UAS           7.10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143640" y="63349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PT / PTP / V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2860560" y="4924800"/>
            <a:ext cx="3342960" cy="133308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9" descr=""/>
          <p:cNvPicPr/>
          <p:nvPr/>
        </p:nvPicPr>
        <p:blipFill>
          <a:blip r:embed="rId2"/>
          <a:stretch/>
        </p:blipFill>
        <p:spPr>
          <a:xfrm>
            <a:off x="323640" y="5559480"/>
            <a:ext cx="1113480" cy="6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8098200" y="5538240"/>
            <a:ext cx="719640" cy="7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51280" y="2364840"/>
            <a:ext cx="8690040" cy="2304000"/>
          </a:xfrm>
          <a:prstGeom prst="rect">
            <a:avLst/>
          </a:prstGeom>
          <a:ln w="0">
            <a:noFill/>
          </a:ln>
        </p:spPr>
      </p:pic>
      <p:sp>
        <p:nvSpPr>
          <p:cNvPr id="157" name="Volný tvar 4"/>
          <p:cNvSpPr/>
          <p:nvPr/>
        </p:nvSpPr>
        <p:spPr>
          <a:xfrm>
            <a:off x="5801760" y="3853440"/>
            <a:ext cx="1082880" cy="452880"/>
          </a:xfrm>
          <a:custGeom>
            <a:avLst/>
            <a:gdLst>
              <a:gd name="textAreaLeft" fmla="*/ 0 w 1082880"/>
              <a:gd name="textAreaRight" fmla="*/ 1083240 w 1082880"/>
              <a:gd name="textAreaTop" fmla="*/ 0 h 452880"/>
              <a:gd name="textAreaBottom" fmla="*/ 453240 h 452880"/>
            </a:gdLst>
            <a:ahLst/>
            <a:rect l="textAreaLeft" t="textAreaTop" r="textAreaRight" b="textAreaBottom"/>
            <a:pathLst>
              <a:path w="385703" h="179353">
                <a:moveTo>
                  <a:pt x="0" y="289"/>
                </a:moveTo>
                <a:lnTo>
                  <a:pt x="100081" y="110778"/>
                </a:lnTo>
                <a:cubicBezTo>
                  <a:pt x="99287" y="130622"/>
                  <a:pt x="100190" y="159031"/>
                  <a:pt x="99396" y="178875"/>
                </a:cubicBezTo>
                <a:lnTo>
                  <a:pt x="283891" y="179353"/>
                </a:lnTo>
                <a:lnTo>
                  <a:pt x="283891" y="107449"/>
                </a:lnTo>
                <a:lnTo>
                  <a:pt x="385703" y="0"/>
                </a:lnTo>
                <a:lnTo>
                  <a:pt x="0" y="289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Volný tvar 5"/>
          <p:cNvSpPr/>
          <p:nvPr/>
        </p:nvSpPr>
        <p:spPr>
          <a:xfrm>
            <a:off x="4398840" y="3146040"/>
            <a:ext cx="1007640" cy="4694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392633" h="161826">
                <a:moveTo>
                  <a:pt x="0" y="161826"/>
                </a:moveTo>
                <a:lnTo>
                  <a:pt x="392633" y="159543"/>
                </a:lnTo>
                <a:lnTo>
                  <a:pt x="318814" y="50006"/>
                </a:lnTo>
                <a:lnTo>
                  <a:pt x="244995" y="0"/>
                </a:lnTo>
                <a:lnTo>
                  <a:pt x="154508" y="2381"/>
                </a:lnTo>
                <a:lnTo>
                  <a:pt x="80689" y="38100"/>
                </a:lnTo>
                <a:lnTo>
                  <a:pt x="0" y="161826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Šipka ve tvaru U 7"/>
          <p:cNvSpPr/>
          <p:nvPr/>
        </p:nvSpPr>
        <p:spPr>
          <a:xfrm flipH="1">
            <a:off x="4644360" y="2570400"/>
            <a:ext cx="1779840" cy="1287360"/>
          </a:xfrm>
          <a:custGeom>
            <a:avLst/>
            <a:gdLst>
              <a:gd name="textAreaLeft" fmla="*/ 360 w 1779840"/>
              <a:gd name="textAreaRight" fmla="*/ 1780560 w 177984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1780251" h="1275059">
                <a:moveTo>
                  <a:pt x="0" y="1275058"/>
                </a:moveTo>
                <a:lnTo>
                  <a:pt x="9525" y="316877"/>
                </a:lnTo>
                <a:cubicBezTo>
                  <a:pt x="9525" y="141871"/>
                  <a:pt x="151396" y="0"/>
                  <a:pt x="326402" y="0"/>
                </a:cubicBezTo>
                <a:lnTo>
                  <a:pt x="1313689" y="0"/>
                </a:lnTo>
                <a:cubicBezTo>
                  <a:pt x="1488695" y="0"/>
                  <a:pt x="1630566" y="141871"/>
                  <a:pt x="1630566" y="316877"/>
                </a:cubicBezTo>
                <a:lnTo>
                  <a:pt x="1630566" y="316877"/>
                </a:lnTo>
                <a:lnTo>
                  <a:pt x="1780251" y="316877"/>
                </a:lnTo>
                <a:lnTo>
                  <a:pt x="1526376" y="577049"/>
                </a:lnTo>
                <a:lnTo>
                  <a:pt x="1272500" y="316877"/>
                </a:lnTo>
                <a:lnTo>
                  <a:pt x="1422185" y="316877"/>
                </a:lnTo>
                <a:lnTo>
                  <a:pt x="1422185" y="316877"/>
                </a:lnTo>
                <a:cubicBezTo>
                  <a:pt x="1422185" y="256956"/>
                  <a:pt x="1373610" y="208381"/>
                  <a:pt x="1313689" y="208381"/>
                </a:cubicBezTo>
                <a:lnTo>
                  <a:pt x="326402" y="208381"/>
                </a:lnTo>
                <a:cubicBezTo>
                  <a:pt x="266481" y="208381"/>
                  <a:pt x="217906" y="256956"/>
                  <a:pt x="217906" y="316877"/>
                </a:cubicBezTo>
                <a:cubicBezTo>
                  <a:pt x="216319" y="636271"/>
                  <a:pt x="214731" y="955665"/>
                  <a:pt x="213144" y="1275059"/>
                </a:cubicBezTo>
                <a:lnTo>
                  <a:pt x="0" y="1275058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9cb86e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Volný tvar 8"/>
          <p:cNvSpPr/>
          <p:nvPr/>
        </p:nvSpPr>
        <p:spPr>
          <a:xfrm>
            <a:off x="5253480" y="3621960"/>
            <a:ext cx="1723320" cy="231840"/>
          </a:xfrm>
          <a:custGeom>
            <a:avLst/>
            <a:gdLst>
              <a:gd name="textAreaLeft" fmla="*/ 0 w 1723320"/>
              <a:gd name="textAreaRight" fmla="*/ 1723680 w 17233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7331" h="76997">
                <a:moveTo>
                  <a:pt x="174455" y="76997"/>
                </a:moveTo>
                <a:lnTo>
                  <a:pt x="515468" y="76997"/>
                </a:lnTo>
                <a:cubicBezTo>
                  <a:pt x="515250" y="67738"/>
                  <a:pt x="515789" y="72828"/>
                  <a:pt x="529937" y="57989"/>
                </a:cubicBezTo>
                <a:cubicBezTo>
                  <a:pt x="545484" y="44881"/>
                  <a:pt x="540616" y="49309"/>
                  <a:pt x="547090" y="46563"/>
                </a:cubicBezTo>
                <a:cubicBezTo>
                  <a:pt x="547680" y="41337"/>
                  <a:pt x="549678" y="47947"/>
                  <a:pt x="516090" y="38592"/>
                </a:cubicBezTo>
                <a:cubicBezTo>
                  <a:pt x="514830" y="32614"/>
                  <a:pt x="516535" y="14733"/>
                  <a:pt x="516089" y="8301"/>
                </a:cubicBezTo>
                <a:cubicBezTo>
                  <a:pt x="514131" y="-1319"/>
                  <a:pt x="515782" y="7095"/>
                  <a:pt x="513417" y="0"/>
                </a:cubicBezTo>
                <a:lnTo>
                  <a:pt x="36891" y="11"/>
                </a:lnTo>
                <a:lnTo>
                  <a:pt x="0" y="42076"/>
                </a:lnTo>
                <a:lnTo>
                  <a:pt x="137753" y="39685"/>
                </a:lnTo>
                <a:lnTo>
                  <a:pt x="174455" y="76997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Volný tvar 9"/>
          <p:cNvSpPr/>
          <p:nvPr/>
        </p:nvSpPr>
        <p:spPr>
          <a:xfrm>
            <a:off x="3957120" y="3838680"/>
            <a:ext cx="769320" cy="367920"/>
          </a:xfrm>
          <a:custGeom>
            <a:avLst/>
            <a:gdLst>
              <a:gd name="textAreaLeft" fmla="*/ 0 w 769320"/>
              <a:gd name="textAreaRight" fmla="*/ 769680 w 76932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322331" h="140206">
                <a:moveTo>
                  <a:pt x="0" y="0"/>
                </a:moveTo>
                <a:lnTo>
                  <a:pt x="322331" y="2381"/>
                </a:lnTo>
                <a:lnTo>
                  <a:pt x="255414" y="68712"/>
                </a:lnTo>
                <a:lnTo>
                  <a:pt x="253749" y="139525"/>
                </a:lnTo>
                <a:lnTo>
                  <a:pt x="74549" y="140206"/>
                </a:lnTo>
                <a:cubicBezTo>
                  <a:pt x="74678" y="118898"/>
                  <a:pt x="73430" y="91268"/>
                  <a:pt x="73559" y="69960"/>
                </a:cubicBezTo>
                <a:lnTo>
                  <a:pt x="0" y="0"/>
                </a:ln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Šipka ve tvaru U 10"/>
          <p:cNvSpPr/>
          <p:nvPr/>
        </p:nvSpPr>
        <p:spPr>
          <a:xfrm>
            <a:off x="4255560" y="2669040"/>
            <a:ext cx="1500480" cy="117936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500929" h="1087963">
                <a:moveTo>
                  <a:pt x="0" y="1087963"/>
                </a:moveTo>
                <a:lnTo>
                  <a:pt x="0" y="311252"/>
                </a:lnTo>
                <a:cubicBezTo>
                  <a:pt x="0" y="139352"/>
                  <a:pt x="139352" y="0"/>
                  <a:pt x="311252" y="0"/>
                </a:cubicBezTo>
                <a:lnTo>
                  <a:pt x="1042649" y="0"/>
                </a:lnTo>
                <a:cubicBezTo>
                  <a:pt x="1214549" y="0"/>
                  <a:pt x="1353901" y="139352"/>
                  <a:pt x="1353901" y="311252"/>
                </a:cubicBezTo>
                <a:lnTo>
                  <a:pt x="1353901" y="311252"/>
                </a:lnTo>
                <a:lnTo>
                  <a:pt x="1500929" y="311252"/>
                </a:lnTo>
                <a:lnTo>
                  <a:pt x="1251560" y="566805"/>
                </a:lnTo>
                <a:lnTo>
                  <a:pt x="1002192" y="311252"/>
                </a:lnTo>
                <a:lnTo>
                  <a:pt x="1149219" y="311252"/>
                </a:lnTo>
                <a:lnTo>
                  <a:pt x="1149219" y="311252"/>
                </a:lnTo>
                <a:cubicBezTo>
                  <a:pt x="1149219" y="252395"/>
                  <a:pt x="1101506" y="204682"/>
                  <a:pt x="1042649" y="204682"/>
                </a:cubicBezTo>
                <a:lnTo>
                  <a:pt x="311252" y="204682"/>
                </a:lnTo>
                <a:cubicBezTo>
                  <a:pt x="252395" y="204682"/>
                  <a:pt x="204682" y="252395"/>
                  <a:pt x="204682" y="311252"/>
                </a:cubicBezTo>
                <a:lnTo>
                  <a:pt x="204682" y="1087963"/>
                </a:lnTo>
                <a:lnTo>
                  <a:pt x="0" y="1087963"/>
                </a:lnTo>
                <a:close/>
              </a:path>
            </a:pathLst>
          </a:custGeom>
          <a:gradFill rotWithShape="0">
            <a:gsLst>
              <a:gs pos="0">
                <a:srgbClr val="edd3b6"/>
              </a:gs>
              <a:gs pos="100000">
                <a:srgbClr val="a96d2b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Volný tvar 11"/>
          <p:cNvSpPr/>
          <p:nvPr/>
        </p:nvSpPr>
        <p:spPr>
          <a:xfrm>
            <a:off x="5009760" y="3289680"/>
            <a:ext cx="929880" cy="325440"/>
          </a:xfrm>
          <a:custGeom>
            <a:avLst/>
            <a:gdLst>
              <a:gd name="textAreaLeft" fmla="*/ 0 w 929880"/>
              <a:gd name="textAreaRight" fmla="*/ 930240 w 92988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92633" h="161826">
                <a:moveTo>
                  <a:pt x="0" y="161826"/>
                </a:moveTo>
                <a:lnTo>
                  <a:pt x="392633" y="159543"/>
                </a:lnTo>
                <a:lnTo>
                  <a:pt x="318814" y="50006"/>
                </a:lnTo>
                <a:lnTo>
                  <a:pt x="244995" y="0"/>
                </a:lnTo>
                <a:lnTo>
                  <a:pt x="154508" y="2381"/>
                </a:lnTo>
                <a:lnTo>
                  <a:pt x="80689" y="38100"/>
                </a:lnTo>
                <a:lnTo>
                  <a:pt x="0" y="161826"/>
                </a:ln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Volný tvar 15"/>
          <p:cNvSpPr/>
          <p:nvPr/>
        </p:nvSpPr>
        <p:spPr>
          <a:xfrm>
            <a:off x="1910160" y="3840840"/>
            <a:ext cx="898200" cy="407880"/>
          </a:xfrm>
          <a:custGeom>
            <a:avLst/>
            <a:gdLst>
              <a:gd name="textAreaLeft" fmla="*/ 0 w 898200"/>
              <a:gd name="textAreaRight" fmla="*/ 898560 w 8982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6172" h="155453">
                <a:moveTo>
                  <a:pt x="0" y="364"/>
                </a:moveTo>
                <a:lnTo>
                  <a:pt x="376172" y="0"/>
                </a:lnTo>
                <a:lnTo>
                  <a:pt x="284328" y="82809"/>
                </a:lnTo>
                <a:cubicBezTo>
                  <a:pt x="284106" y="107024"/>
                  <a:pt x="283883" y="131238"/>
                  <a:pt x="283661" y="155453"/>
                </a:cubicBezTo>
                <a:lnTo>
                  <a:pt x="91499" y="153387"/>
                </a:lnTo>
                <a:cubicBezTo>
                  <a:pt x="91628" y="132079"/>
                  <a:pt x="89383" y="104449"/>
                  <a:pt x="89512" y="83141"/>
                </a:cubicBezTo>
                <a:lnTo>
                  <a:pt x="0" y="364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Šipka ve tvaru U 10"/>
          <p:cNvSpPr/>
          <p:nvPr/>
        </p:nvSpPr>
        <p:spPr>
          <a:xfrm>
            <a:off x="2269800" y="2655360"/>
            <a:ext cx="1624680" cy="1179360"/>
          </a:xfrm>
          <a:custGeom>
            <a:avLst/>
            <a:gdLst>
              <a:gd name="textAreaLeft" fmla="*/ 0 w 1624680"/>
              <a:gd name="textAreaRight" fmla="*/ 1625040 w 16246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500929" h="1087963">
                <a:moveTo>
                  <a:pt x="0" y="1087963"/>
                </a:moveTo>
                <a:lnTo>
                  <a:pt x="0" y="311252"/>
                </a:lnTo>
                <a:cubicBezTo>
                  <a:pt x="0" y="139352"/>
                  <a:pt x="139352" y="0"/>
                  <a:pt x="311252" y="0"/>
                </a:cubicBezTo>
                <a:lnTo>
                  <a:pt x="1042649" y="0"/>
                </a:lnTo>
                <a:cubicBezTo>
                  <a:pt x="1214549" y="0"/>
                  <a:pt x="1353901" y="139352"/>
                  <a:pt x="1353901" y="311252"/>
                </a:cubicBezTo>
                <a:lnTo>
                  <a:pt x="1353901" y="311252"/>
                </a:lnTo>
                <a:lnTo>
                  <a:pt x="1500929" y="311252"/>
                </a:lnTo>
                <a:lnTo>
                  <a:pt x="1251560" y="566805"/>
                </a:lnTo>
                <a:lnTo>
                  <a:pt x="1002192" y="311252"/>
                </a:lnTo>
                <a:lnTo>
                  <a:pt x="1149219" y="311252"/>
                </a:lnTo>
                <a:lnTo>
                  <a:pt x="1149219" y="311252"/>
                </a:lnTo>
                <a:cubicBezTo>
                  <a:pt x="1149219" y="252395"/>
                  <a:pt x="1101506" y="204682"/>
                  <a:pt x="1042649" y="204682"/>
                </a:cubicBezTo>
                <a:lnTo>
                  <a:pt x="311252" y="204682"/>
                </a:lnTo>
                <a:cubicBezTo>
                  <a:pt x="252395" y="204682"/>
                  <a:pt x="204682" y="252395"/>
                  <a:pt x="204682" y="311252"/>
                </a:cubicBezTo>
                <a:lnTo>
                  <a:pt x="204682" y="1087963"/>
                </a:lnTo>
                <a:lnTo>
                  <a:pt x="0" y="1087963"/>
                </a:lnTo>
                <a:close/>
              </a:path>
            </a:pathLst>
          </a:custGeom>
          <a:gradFill rotWithShape="0">
            <a:gsLst>
              <a:gs pos="0">
                <a:srgbClr val="ec84b8"/>
              </a:gs>
              <a:gs pos="100000">
                <a:srgbClr val="ff0066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Volný tvar 17"/>
          <p:cNvSpPr/>
          <p:nvPr/>
        </p:nvSpPr>
        <p:spPr>
          <a:xfrm>
            <a:off x="3220920" y="3263760"/>
            <a:ext cx="856080" cy="360000"/>
          </a:xfrm>
          <a:custGeom>
            <a:avLst/>
            <a:gdLst>
              <a:gd name="textAreaLeft" fmla="*/ 0 w 856080"/>
              <a:gd name="textAreaRight" fmla="*/ 856440 w 856080"/>
              <a:gd name="textAreaTop" fmla="*/ 0 h 360000"/>
              <a:gd name="textAreaBottom" fmla="*/ 360360 h 360000"/>
            </a:gdLst>
            <a:ahLst/>
            <a:rect l="textAreaLeft" t="textAreaTop" r="textAreaRight" b="textAreaBottom"/>
            <a:pathLst>
              <a:path w="333499" h="124068">
                <a:moveTo>
                  <a:pt x="0" y="122447"/>
                </a:moveTo>
                <a:lnTo>
                  <a:pt x="333499" y="124068"/>
                </a:lnTo>
                <a:lnTo>
                  <a:pt x="300510" y="64916"/>
                </a:lnTo>
                <a:lnTo>
                  <a:pt x="207216" y="0"/>
                </a:lnTo>
                <a:lnTo>
                  <a:pt x="123221" y="3209"/>
                </a:lnTo>
                <a:lnTo>
                  <a:pt x="31781" y="75374"/>
                </a:lnTo>
                <a:lnTo>
                  <a:pt x="0" y="122447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Volný tvar 18"/>
          <p:cNvSpPr/>
          <p:nvPr/>
        </p:nvSpPr>
        <p:spPr>
          <a:xfrm>
            <a:off x="1810080" y="3621960"/>
            <a:ext cx="2061360" cy="222120"/>
          </a:xfrm>
          <a:custGeom>
            <a:avLst/>
            <a:gdLst>
              <a:gd name="textAreaLeft" fmla="*/ 0 w 2061360"/>
              <a:gd name="textAreaRight" fmla="*/ 2061720 w 20613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654666" h="73797">
                <a:moveTo>
                  <a:pt x="32165" y="73797"/>
                </a:moveTo>
                <a:lnTo>
                  <a:pt x="318739" y="72203"/>
                </a:lnTo>
                <a:cubicBezTo>
                  <a:pt x="343456" y="38441"/>
                  <a:pt x="318689" y="71284"/>
                  <a:pt x="345296" y="42609"/>
                </a:cubicBezTo>
                <a:lnTo>
                  <a:pt x="469306" y="38846"/>
                </a:lnTo>
                <a:cubicBezTo>
                  <a:pt x="628512" y="42477"/>
                  <a:pt x="468644" y="38935"/>
                  <a:pt x="628608" y="42566"/>
                </a:cubicBezTo>
                <a:cubicBezTo>
                  <a:pt x="653075" y="1813"/>
                  <a:pt x="628048" y="42155"/>
                  <a:pt x="654666" y="785"/>
                </a:cubicBezTo>
                <a:lnTo>
                  <a:pt x="48846" y="0"/>
                </a:lnTo>
                <a:lnTo>
                  <a:pt x="21029" y="42064"/>
                </a:lnTo>
                <a:lnTo>
                  <a:pt x="0" y="44456"/>
                </a:lnTo>
                <a:lnTo>
                  <a:pt x="32165" y="73797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Volný tvar 2"/>
          <p:cNvSpPr/>
          <p:nvPr/>
        </p:nvSpPr>
        <p:spPr>
          <a:xfrm>
            <a:off x="3802680" y="3621960"/>
            <a:ext cx="1569240" cy="234720"/>
          </a:xfrm>
          <a:custGeom>
            <a:avLst/>
            <a:gdLst>
              <a:gd name="textAreaLeft" fmla="*/ 0 w 1569240"/>
              <a:gd name="textAreaRight" fmla="*/ 1569600 w 15692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569429" h="194858">
                <a:moveTo>
                  <a:pt x="937305" y="187911"/>
                </a:moveTo>
                <a:cubicBezTo>
                  <a:pt x="919031" y="201562"/>
                  <a:pt x="926444" y="190967"/>
                  <a:pt x="926992" y="190509"/>
                </a:cubicBezTo>
                <a:cubicBezTo>
                  <a:pt x="955832" y="193930"/>
                  <a:pt x="937029" y="190733"/>
                  <a:pt x="164992" y="180545"/>
                </a:cubicBezTo>
                <a:cubicBezTo>
                  <a:pt x="2953" y="104280"/>
                  <a:pt x="159664" y="180495"/>
                  <a:pt x="0" y="107461"/>
                </a:cubicBezTo>
                <a:cubicBezTo>
                  <a:pt x="83224" y="6535"/>
                  <a:pt x="215" y="108057"/>
                  <a:pt x="85689" y="3325"/>
                </a:cubicBezTo>
                <a:cubicBezTo>
                  <a:pt x="280701" y="6175"/>
                  <a:pt x="36952" y="5586"/>
                  <a:pt x="284242" y="5032"/>
                </a:cubicBezTo>
                <a:lnTo>
                  <a:pt x="1569429" y="0"/>
                </a:lnTo>
                <a:lnTo>
                  <a:pt x="1460542" y="108758"/>
                </a:lnTo>
                <a:cubicBezTo>
                  <a:pt x="1464471" y="106355"/>
                  <a:pt x="1027019" y="108606"/>
                  <a:pt x="1036633" y="108606"/>
                </a:cubicBezTo>
                <a:cubicBezTo>
                  <a:pt x="995333" y="113266"/>
                  <a:pt x="1032050" y="108890"/>
                  <a:pt x="934135" y="190509"/>
                </a:cubicBezTo>
                <a:cubicBezTo>
                  <a:pt x="757640" y="190445"/>
                  <a:pt x="938495" y="178614"/>
                  <a:pt x="937305" y="187911"/>
                </a:cubicBez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ostup provádění zásypů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://www.most42inline.cz/images/vuas.gif"/>
          <p:cNvPicPr/>
          <p:nvPr/>
        </p:nvPicPr>
        <p:blipFill>
          <a:blip r:embed="rId2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21"/>
          <p:cNvSpPr/>
          <p:nvPr/>
        </p:nvSpPr>
        <p:spPr>
          <a:xfrm>
            <a:off x="615600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22"/>
          <p:cNvSpPr/>
          <p:nvPr/>
        </p:nvSpPr>
        <p:spPr>
          <a:xfrm>
            <a:off x="418860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23"/>
          <p:cNvSpPr/>
          <p:nvPr/>
        </p:nvSpPr>
        <p:spPr>
          <a:xfrm>
            <a:off x="219564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3CD9-5BA2-4810-A5F9-937EAACF82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323543"/>
                </a:solidFill>
                <a:latin typeface="Calibri"/>
              </a:rPr>
              <a:t>Přirozené klenby v půdním prostřed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6045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Rozložení sil působících na potrubí pod zeminou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Síly v půdě se rozkládají do výsledného trojúhelníku na plošné zatížení o menším působení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běr obrázku pro potrubí nejmenší DN 150 a největší DN 500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olen vnitřní úhel tření 25°- 38° (dle zeminy v místě koridoru)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Obrázek 9" descr=""/>
          <p:cNvPicPr/>
          <p:nvPr/>
        </p:nvPicPr>
        <p:blipFill>
          <a:blip r:embed="rId3"/>
          <a:srcRect l="1675" t="24192" r="607" b="17214"/>
          <a:stretch/>
        </p:blipFill>
        <p:spPr>
          <a:xfrm>
            <a:off x="228960" y="1604520"/>
            <a:ext cx="8444880" cy="4050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180" name="Zástupný symbol pro obsah 3"/>
          <p:cNvSpPr/>
          <p:nvPr/>
        </p:nvSpPr>
        <p:spPr>
          <a:xfrm>
            <a:off x="361440" y="5131080"/>
            <a:ext cx="8230320" cy="1181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ávěr z obrázk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 60 cm krytí vytvoří dostatečnou přirozenou klenku proti účinkům vnějšího tlaku na zem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1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BBEB-5BA6-443D-ADDC-8A7081B55F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ýhody a nevýhody navrhovaného řešen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ýhod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Úspora času při výstavbě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nebude zbytečně namáháno pojezdem při odvozu zemin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ýšení kapacity pracovního prostoru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ýšení bezpečnosti práce na stavbě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Šetříme životní prostředí od výfukových plynů z doprav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Úspora finančních prostředků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výhod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rosím o Vaše názory na konci prezent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3934080" y="585180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295920" y="2091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85D2-71FD-4F16-B8F8-C302C60197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Závěr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lnění požadavků provozovatelů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má krytí 1 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a kvalitu zodpovídá stavitel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 stresstest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a po zasypání kalibr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a inspek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A268-62F6-4239-BD31-634825D54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racoval: Ing. Jan Vosáhlo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HIP: Ing. Eva Macholdová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                         Předneseno: VUAS, 7.10.2015</a:t>
            </a: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6948360" y="6064920"/>
            <a:ext cx="1626840" cy="64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4539960" y="61102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193" name="Obrázek 6" descr=""/>
          <p:cNvPicPr/>
          <p:nvPr/>
        </p:nvPicPr>
        <p:blipFill>
          <a:blip r:embed="rId3"/>
          <a:stretch/>
        </p:blipFill>
        <p:spPr>
          <a:xfrm>
            <a:off x="1187640" y="6064920"/>
            <a:ext cx="1007640" cy="57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i.huffpost.com/gen/1426929/images/o-PIPELINE-facebook.jpg"/>
          <p:cNvPicPr/>
          <p:nvPr/>
        </p:nvPicPr>
        <p:blipFill>
          <a:blip r:embed="rId4"/>
          <a:stretch/>
        </p:blipFill>
        <p:spPr>
          <a:xfrm>
            <a:off x="377280" y="1618920"/>
            <a:ext cx="8352720" cy="417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22CC-E1A9-4BBB-B219-422B3B9D98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Cíle projektu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tup výstavb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zorové uložení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syp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ůsobení sil na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ýhody a nevýhody navrhovaného řešen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věr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EDDE-B909-46F3-B06E-96AABC9A9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Cíl projektu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ředat potrubí ve 100% kondici 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poničené izol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tvarových anomálií a defektů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žadované krytí nad potrubím = 1,0 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emina zhutněna v požadovaném stupni hutnění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nepřijatelné ovalit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lnění všech požadavků provozovatele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cs-CZ" sz="2000" spc="-1" strike="noStrike">
                <a:solidFill>
                  <a:srgbClr val="323543"/>
                </a:solidFill>
                <a:latin typeface="Calibri"/>
              </a:rPr>
              <a:t>Přenesená zodpovědnost stavebníka na zhotovitele stavby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marL="59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43520" y="20736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0945-7103-4410-966B-E0B1018AA7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ostup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obsah 2"/>
          <p:cNvSpPr/>
          <p:nvPr/>
        </p:nvSpPr>
        <p:spPr>
          <a:xfrm>
            <a:off x="251640" y="1556640"/>
            <a:ext cx="850392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ávrh projektan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stavba od východu k západu ve směru staničení korid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racovní pruh zleva od potrubí ve směru staničení korid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kopek ukládat zprava od potrubí ve směru stani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kopek ukládat na zasypanou a zhutněnou zemi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řejezd potrubí technikou minimalizovat na určené přejez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řejezdy osadit panely se stěrkovým podsyp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stup výstavby zhotoví dodavatel stavby, dle svých možnosti, projekt doporučuje určitý reálný postup pro splnění Vašich požada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436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3795-A79E-4123-BD13-12A4B5EB61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Grafické znázornění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0804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ordinační situace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pic>
        <p:nvPicPr>
          <p:cNvPr id="132" name="Obrázek 3" descr=""/>
          <p:cNvPicPr/>
          <p:nvPr/>
        </p:nvPicPr>
        <p:blipFill>
          <a:blip r:embed="rId3"/>
          <a:srcRect l="-399" t="13249" r="1680" b="31095"/>
          <a:stretch/>
        </p:blipFill>
        <p:spPr>
          <a:xfrm>
            <a:off x="301680" y="2133000"/>
            <a:ext cx="8462520" cy="38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56A4-0A94-48F2-A77D-7D75CB153D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acovní pásma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Obrázek 4" descr=""/>
          <p:cNvPicPr/>
          <p:nvPr/>
        </p:nvPicPr>
        <p:blipFill>
          <a:blip r:embed="rId1"/>
          <a:srcRect l="20903" t="422" r="16165" b="689"/>
          <a:stretch/>
        </p:blipFill>
        <p:spPr>
          <a:xfrm>
            <a:off x="827640" y="1447920"/>
            <a:ext cx="2448000" cy="480888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6" descr=""/>
          <p:cNvPicPr/>
          <p:nvPr/>
        </p:nvPicPr>
        <p:blipFill>
          <a:blip r:embed="rId2"/>
          <a:stretch/>
        </p:blipFill>
        <p:spPr>
          <a:xfrm rot="16200000">
            <a:off x="4569120" y="1971720"/>
            <a:ext cx="4701960" cy="37612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7"/>
          <p:cNvSpPr/>
          <p:nvPr/>
        </p:nvSpPr>
        <p:spPr>
          <a:xfrm rot="3646800">
            <a:off x="5511600" y="3530880"/>
            <a:ext cx="216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avice pro dálkovodní ko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102A-A165-4FF7-AEA5-76D443C60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7b9899"/>
                </a:solidFill>
                <a:latin typeface="Calibri"/>
              </a:rPr>
              <a:t>Postup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Obrázek 7" descr=""/>
          <p:cNvPicPr/>
          <p:nvPr/>
        </p:nvPicPr>
        <p:blipFill>
          <a:blip r:embed="rId1"/>
          <a:srcRect l="9591" t="723" r="8559" b="1058"/>
          <a:stretch/>
        </p:blipFill>
        <p:spPr>
          <a:xfrm>
            <a:off x="683640" y="1484640"/>
            <a:ext cx="3165480" cy="4748400"/>
          </a:xfrm>
          <a:prstGeom prst="rect">
            <a:avLst/>
          </a:prstGeom>
          <a:ln w="0">
            <a:noFill/>
          </a:ln>
        </p:spPr>
      </p:pic>
      <p:pic>
        <p:nvPicPr>
          <p:cNvPr id="139" name="Obrázek 8" descr=""/>
          <p:cNvPicPr/>
          <p:nvPr/>
        </p:nvPicPr>
        <p:blipFill>
          <a:blip r:embed="rId2"/>
          <a:srcRect l="26613" t="1798" r="24477" b="2911"/>
          <a:stretch/>
        </p:blipFill>
        <p:spPr>
          <a:xfrm>
            <a:off x="6228360" y="2061000"/>
            <a:ext cx="2448000" cy="381600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9" descr=""/>
          <p:cNvPicPr/>
          <p:nvPr/>
        </p:nvPicPr>
        <p:blipFill>
          <a:blip r:embed="rId3"/>
          <a:srcRect l="3239" t="9379" r="1510" b="9285"/>
          <a:stretch/>
        </p:blipFill>
        <p:spPr>
          <a:xfrm rot="16200000">
            <a:off x="-26280" y="2211480"/>
            <a:ext cx="4536000" cy="3098520"/>
          </a:xfrm>
          <a:prstGeom prst="rect">
            <a:avLst/>
          </a:prstGeom>
          <a:ln w="0">
            <a:noFill/>
          </a:ln>
        </p:spPr>
      </p:pic>
      <p:pic>
        <p:nvPicPr>
          <p:cNvPr id="141" name="Obrázek 10" descr=""/>
          <p:cNvPicPr/>
          <p:nvPr/>
        </p:nvPicPr>
        <p:blipFill>
          <a:blip r:embed="rId4"/>
          <a:srcRect l="9615" t="821" r="8698" b="2992"/>
          <a:stretch/>
        </p:blipFill>
        <p:spPr>
          <a:xfrm>
            <a:off x="650520" y="1497600"/>
            <a:ext cx="3208680" cy="4722840"/>
          </a:xfrm>
          <a:prstGeom prst="rect">
            <a:avLst/>
          </a:prstGeom>
          <a:ln w="0">
            <a:noFill/>
          </a:ln>
        </p:spPr>
      </p:pic>
      <p:pic>
        <p:nvPicPr>
          <p:cNvPr id="142" name="Obrázek 11" descr=""/>
          <p:cNvPicPr/>
          <p:nvPr/>
        </p:nvPicPr>
        <p:blipFill>
          <a:blip r:embed="rId5"/>
          <a:srcRect l="5246" t="15015" r="1186" b="8350"/>
          <a:stretch/>
        </p:blipFill>
        <p:spPr>
          <a:xfrm rot="16200000">
            <a:off x="-173880" y="2301480"/>
            <a:ext cx="4735800" cy="3102840"/>
          </a:xfrm>
          <a:prstGeom prst="rect">
            <a:avLst/>
          </a:prstGeom>
          <a:ln w="0">
            <a:noFill/>
          </a:ln>
        </p:spPr>
      </p:pic>
      <p:pic>
        <p:nvPicPr>
          <p:cNvPr id="143" name="Obrázek 12" descr=""/>
          <p:cNvPicPr/>
          <p:nvPr/>
        </p:nvPicPr>
        <p:blipFill>
          <a:blip r:embed="rId6"/>
          <a:srcRect l="13666" t="836" r="9340" b="3843"/>
          <a:stretch/>
        </p:blipFill>
        <p:spPr>
          <a:xfrm>
            <a:off x="664200" y="1492560"/>
            <a:ext cx="3184560" cy="468000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3" descr=""/>
          <p:cNvPicPr/>
          <p:nvPr/>
        </p:nvPicPr>
        <p:blipFill>
          <a:blip r:embed="rId7"/>
          <a:srcRect l="10116" t="1304" r="9945" b="3418"/>
          <a:stretch/>
        </p:blipFill>
        <p:spPr>
          <a:xfrm>
            <a:off x="650520" y="1492560"/>
            <a:ext cx="3310920" cy="488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35E1-071F-4B1A-8A07-D99AB6E26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zorové uložení potrub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ncový stav při předání přeložk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hotovitel stavby 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         stavebník 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           provozovatel dálkovodu  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Calibri"/>
              </a:rPr>
              <a:t>   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Přímá spojnice se šipkou 5"/>
          <p:cNvCxnSpPr/>
          <p:nvPr/>
        </p:nvCxnSpPr>
        <p:spPr>
          <a:xfrm>
            <a:off x="3059640" y="2204640"/>
            <a:ext cx="504360" cy="3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48" name="Přímá spojnice se šipkou 7"/>
          <p:cNvCxnSpPr/>
          <p:nvPr/>
        </p:nvCxnSpPr>
        <p:spPr>
          <a:xfrm>
            <a:off x="5004000" y="2204640"/>
            <a:ext cx="504360" cy="3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pic>
        <p:nvPicPr>
          <p:cNvPr id="149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pic>
        <p:nvPicPr>
          <p:cNvPr id="151" name="Obrázek 4" descr=""/>
          <p:cNvPicPr/>
          <p:nvPr/>
        </p:nvPicPr>
        <p:blipFill>
          <a:blip r:embed="rId3"/>
          <a:srcRect l="1250" t="15871" r="0" b="4763"/>
          <a:stretch/>
        </p:blipFill>
        <p:spPr>
          <a:xfrm>
            <a:off x="1835640" y="2498760"/>
            <a:ext cx="5687640" cy="36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74A9-C264-4225-842A-EE33069230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zorový příčný řez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01680" y="3241440"/>
            <a:ext cx="850392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www.most42inline.cz/images/vuas.gif"/>
          <p:cNvPicPr/>
          <p:nvPr/>
        </p:nvPicPr>
        <p:blipFill>
          <a:blip r:embed="rId2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D28D-A152-42F4-83A5-BC7EA7C6A3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dministrativní">
  <a:themeElements>
    <a:clrScheme name="Administrativní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ministrativní">
  <a:themeElements>
    <a:clrScheme name="Administrativní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592</TotalTime>
  <Application>LibreOffice/7.4.7.2$Linux_X86_64 LibreOffice_project/40$Build-2</Application>
  <AppVersion>15.0000</AppVersion>
  <Words>355</Words>
  <Paragraphs>105</Paragraphs>
  <Company>Infotea s.r.o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4T19:14:47Z</dcterms:created>
  <dc:creator>Růžička Tomáš (ruzicka)</dc:creator>
  <dc:description/>
  <dc:language>en-US</dc:language>
  <cp:lastModifiedBy>Růžička Tomáš (ruzicka)</cp:lastModifiedBy>
  <dcterms:modified xsi:type="dcterms:W3CDTF">2016-03-10T08:29:34Z</dcterms:modified>
  <cp:revision>56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ředvádění na obrazovce (4:3)</vt:lpwstr>
  </property>
  <property fmtid="{D5CDD505-2E9C-101B-9397-08002B2CF9AE}" pid="3" name="Slides">
    <vt:r8>14</vt:r8>
  </property>
</Properties>
</file>